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771B-06BA-4FEB-AEAF-0222F8313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84120" y="685800"/>
            <a:ext cx="4286520" cy="32148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allergia deve essere considerata come una malattia sistemica in cui vari organi possono essere coinvol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56ED-EBBF-417D-B449-0AE12FB7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2261-734D-4737-AB07-5735906E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9B07-0890-40A9-8D19-E79EEAE36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87BA-4734-4C7C-9C6E-BE0F3539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6843-2FA6-46D4-B962-D87266BC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C411-610C-4752-9680-CBB6D8A9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7222-56B2-44A5-AA86-5BBFD19D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F4F3-B539-4D81-9E05-AA5FFA10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94F3-6016-4B4C-8B14-E0834DE8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760F-AE31-49C2-AE8E-E08485AE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9130-8630-4E2A-ABB8-611AAFC0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1DDD-69FF-473C-894B-6EBE59BC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306D-1B2D-4BB1-985F-8A5272478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f2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ff2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1840" y="880920"/>
            <a:ext cx="237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81520" y="1038240"/>
            <a:ext cx="223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534160" cy="682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65160" rIns="65160" tIns="25560" bIns="25560" anchor="t">
            <a:normAutofit/>
          </a:bodyPr>
          <a:p>
            <a:pPr marL="392040" indent="0" algn="ctr">
              <a:lnSpc>
                <a:spcPct val="90000"/>
              </a:lnSpc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2500" spc="-1" strike="noStrike">
                <a:solidFill>
                  <a:srgbClr val="fdff2e"/>
                </a:solidFill>
                <a:latin typeface="Times New Roman"/>
              </a:rPr>
              <a:t>Prevalenza della rinite tra i 13 e i 14 anni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0" algn="ctr">
              <a:lnSpc>
                <a:spcPct val="90000"/>
              </a:lnSpc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2100" spc="-1" strike="noStrike">
                <a:solidFill>
                  <a:srgbClr val="71f4e4"/>
                </a:solidFill>
                <a:latin typeface="Times New Roman"/>
              </a:rPr>
              <a:t>Studio ISAAC Strachan et al, Pediatr Allergy Immunology 199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80000" y="2144880"/>
            <a:ext cx="61920" cy="236520"/>
          </a:xfrm>
          <a:prstGeom prst="rect">
            <a:avLst/>
          </a:prstGeom>
          <a:solidFill>
            <a:srgbClr val="ffffff"/>
          </a:solidFill>
          <a:ln w="127080">
            <a:solidFill>
              <a:srgbClr val="70f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177920" y="2003400"/>
            <a:ext cx="6788160" cy="4626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19480" y="3417840"/>
            <a:ext cx="61920" cy="716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57560" y="3417840"/>
            <a:ext cx="61920" cy="7164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41920" y="2508120"/>
            <a:ext cx="61920" cy="716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2019240"/>
            <a:ext cx="0" cy="2239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35480" y="4259160"/>
            <a:ext cx="18032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238720" y="2019240"/>
            <a:ext cx="0" cy="2239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81520" y="3639960"/>
            <a:ext cx="41040" cy="4788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32280" y="4118040"/>
            <a:ext cx="6192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03680" y="4103640"/>
            <a:ext cx="25560" cy="2700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98840" y="3908520"/>
            <a:ext cx="61920" cy="6984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97280" y="2844720"/>
            <a:ext cx="23760" cy="2700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5360" y="2495520"/>
            <a:ext cx="22320" cy="2700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21120" y="2495520"/>
            <a:ext cx="22320" cy="2700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89200" y="3489480"/>
            <a:ext cx="61920" cy="6984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76400" y="3489480"/>
            <a:ext cx="63720" cy="6984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92800" y="4678200"/>
            <a:ext cx="60120" cy="6984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22680" y="5238720"/>
            <a:ext cx="61920" cy="6984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87800" y="5589720"/>
            <a:ext cx="60120" cy="6804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87800" y="5938920"/>
            <a:ext cx="60120" cy="6984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5880" y="5938920"/>
            <a:ext cx="61920" cy="6984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1160" y="4538520"/>
            <a:ext cx="61920" cy="6984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42320" y="6008760"/>
            <a:ext cx="61920" cy="6984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57840" y="5784840"/>
            <a:ext cx="22320" cy="2700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07080" y="4187880"/>
            <a:ext cx="61920" cy="7128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27280" y="4468680"/>
            <a:ext cx="6192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14560" y="3500280"/>
            <a:ext cx="104760" cy="1159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78160" y="3208320"/>
            <a:ext cx="6336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00240" y="5867280"/>
            <a:ext cx="61920" cy="716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76400" y="5167440"/>
            <a:ext cx="63720" cy="7128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84600" y="5099040"/>
            <a:ext cx="61920" cy="6840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35480" y="5589720"/>
            <a:ext cx="63360" cy="680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73560" y="5657760"/>
            <a:ext cx="6192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47920" y="5938920"/>
            <a:ext cx="6372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73560" y="5799240"/>
            <a:ext cx="61920" cy="680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12200" y="6299280"/>
            <a:ext cx="1029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74120" y="6229440"/>
            <a:ext cx="41040" cy="475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736040" y="6229440"/>
            <a:ext cx="42840" cy="475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97960" y="6159600"/>
            <a:ext cx="1047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97960" y="6019920"/>
            <a:ext cx="42840" cy="4608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97960" y="6089760"/>
            <a:ext cx="42840" cy="475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04240" y="6078600"/>
            <a:ext cx="6336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9640" y="5938920"/>
            <a:ext cx="6372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96040" y="4397400"/>
            <a:ext cx="60480" cy="71280"/>
          </a:xfrm>
          <a:prstGeom prst="ellipse">
            <a:avLst/>
          </a:prstGeom>
          <a:solidFill>
            <a:srgbClr val="f4b34d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56520" y="4678200"/>
            <a:ext cx="63360" cy="69840"/>
          </a:xfrm>
          <a:prstGeom prst="ellipse">
            <a:avLst/>
          </a:prstGeom>
          <a:solidFill>
            <a:srgbClr val="f4b34d"/>
          </a:solidFill>
          <a:ln w="12708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56520" y="4748040"/>
            <a:ext cx="63360" cy="716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19880" y="4819680"/>
            <a:ext cx="63360" cy="68400"/>
          </a:xfrm>
          <a:prstGeom prst="ellipse">
            <a:avLst/>
          </a:prstGeom>
          <a:solidFill>
            <a:srgbClr val="f4b34d"/>
          </a:solidFill>
          <a:ln w="12708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4760" y="4538520"/>
            <a:ext cx="6192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92840" y="4187880"/>
            <a:ext cx="61920" cy="7128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42320" y="3908520"/>
            <a:ext cx="61920" cy="69840"/>
          </a:xfrm>
          <a:prstGeom prst="ellipse">
            <a:avLst/>
          </a:prstGeom>
          <a:solidFill>
            <a:srgbClr val="fde3ba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4760" y="3768840"/>
            <a:ext cx="61920" cy="69840"/>
          </a:xfrm>
          <a:prstGeom prst="ellipse">
            <a:avLst/>
          </a:prstGeom>
          <a:solidFill>
            <a:srgbClr val="fde3ba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16680" y="3838680"/>
            <a:ext cx="63720" cy="69840"/>
          </a:xfrm>
          <a:prstGeom prst="ellipse">
            <a:avLst/>
          </a:prstGeom>
          <a:solidFill>
            <a:srgbClr val="fde3ba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19880" y="4888080"/>
            <a:ext cx="6336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51280" y="5950080"/>
            <a:ext cx="42840" cy="47520"/>
          </a:xfrm>
          <a:prstGeom prst="ellipse">
            <a:avLst/>
          </a:prstGeom>
          <a:solidFill>
            <a:srgbClr val="f6bf69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60880" y="4898880"/>
            <a:ext cx="42840" cy="4788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73600" y="4118040"/>
            <a:ext cx="61920" cy="69840"/>
          </a:xfrm>
          <a:prstGeom prst="ellipse">
            <a:avLst/>
          </a:prstGeom>
          <a:solidFill>
            <a:srgbClr val="fde3ba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97440" y="3978360"/>
            <a:ext cx="6372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85000" y="3627360"/>
            <a:ext cx="63360" cy="716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97560" y="3639960"/>
            <a:ext cx="104760" cy="1177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00640" y="4048200"/>
            <a:ext cx="6336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97560" y="4199040"/>
            <a:ext cx="1047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00760" y="4830840"/>
            <a:ext cx="41040" cy="4608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51520" y="4538520"/>
            <a:ext cx="6192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17800" y="3780000"/>
            <a:ext cx="42840" cy="457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55880" y="3849840"/>
            <a:ext cx="42840" cy="475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55880" y="3429000"/>
            <a:ext cx="42840" cy="493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22680" y="3559320"/>
            <a:ext cx="61920" cy="68040"/>
          </a:xfrm>
          <a:prstGeom prst="ellipse">
            <a:avLst/>
          </a:prstGeom>
          <a:solidFill>
            <a:srgbClr val="fde3ba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1520" y="3500280"/>
            <a:ext cx="41040" cy="4788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43440" y="3570120"/>
            <a:ext cx="41040" cy="4608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70360" y="3278160"/>
            <a:ext cx="6192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07040" y="3278160"/>
            <a:ext cx="6012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16280" y="3768840"/>
            <a:ext cx="63720" cy="69840"/>
          </a:xfrm>
          <a:prstGeom prst="ellipse">
            <a:avLst/>
          </a:prstGeom>
          <a:solidFill>
            <a:srgbClr val="f4b552"/>
          </a:solidFill>
          <a:ln w="12708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07040" y="3348000"/>
            <a:ext cx="6012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67160" y="3417840"/>
            <a:ext cx="63720" cy="71640"/>
          </a:xfrm>
          <a:prstGeom prst="ellipse">
            <a:avLst/>
          </a:prstGeom>
          <a:solidFill>
            <a:srgbClr val="f4b552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30880" y="3489480"/>
            <a:ext cx="6192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30880" y="3559320"/>
            <a:ext cx="61920" cy="68040"/>
          </a:xfrm>
          <a:prstGeom prst="ellipse">
            <a:avLst/>
          </a:prstGeom>
          <a:solidFill>
            <a:srgbClr val="f4b552"/>
          </a:solidFill>
          <a:ln w="12708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67160" y="3068640"/>
            <a:ext cx="6372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52920" y="2998800"/>
            <a:ext cx="6336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45120" y="3068640"/>
            <a:ext cx="6192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70360" y="3068640"/>
            <a:ext cx="6192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16280" y="2228760"/>
            <a:ext cx="6372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52920" y="2368440"/>
            <a:ext cx="63360" cy="69840"/>
          </a:xfrm>
          <a:prstGeom prst="ellipse">
            <a:avLst/>
          </a:prstGeom>
          <a:solidFill>
            <a:srgbClr val="fde3ba"/>
          </a:solidFill>
          <a:ln w="12708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2800" y="2438280"/>
            <a:ext cx="60120" cy="69840"/>
          </a:xfrm>
          <a:prstGeom prst="ellipse">
            <a:avLst/>
          </a:prstGeom>
          <a:solidFill>
            <a:srgbClr val="fde3ba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76880" y="2728800"/>
            <a:ext cx="106200" cy="1177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93960" y="2590920"/>
            <a:ext cx="104760" cy="1159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43440" y="2728800"/>
            <a:ext cx="41040" cy="493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43440" y="2800440"/>
            <a:ext cx="41040" cy="4608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1520" y="2800440"/>
            <a:ext cx="41040" cy="4608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81520" y="2728800"/>
            <a:ext cx="41040" cy="493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43440" y="2870280"/>
            <a:ext cx="41040" cy="475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05360" y="2728800"/>
            <a:ext cx="41040" cy="493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43440" y="2658960"/>
            <a:ext cx="41040" cy="4788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43440" y="2590920"/>
            <a:ext cx="41040" cy="4608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3840" y="2508120"/>
            <a:ext cx="61920" cy="716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51520" y="2508120"/>
            <a:ext cx="61920" cy="716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98840" y="3489480"/>
            <a:ext cx="6192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35480" y="3559320"/>
            <a:ext cx="63360" cy="680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35480" y="3699000"/>
            <a:ext cx="6336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89600" y="3838680"/>
            <a:ext cx="6192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52920" y="2859120"/>
            <a:ext cx="6336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67160" y="3348000"/>
            <a:ext cx="6372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52920" y="3489480"/>
            <a:ext cx="6336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52920" y="3699000"/>
            <a:ext cx="6336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f84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03840" y="3699000"/>
            <a:ext cx="6192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13440" y="3208320"/>
            <a:ext cx="6336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95880" y="3124080"/>
            <a:ext cx="219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41520" y="4259160"/>
            <a:ext cx="6192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51120" y="4608360"/>
            <a:ext cx="6192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40120" y="6148440"/>
            <a:ext cx="6012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00240" y="6497640"/>
            <a:ext cx="61920" cy="71280"/>
          </a:xfrm>
          <a:prstGeom prst="ellipse">
            <a:avLst/>
          </a:prstGeom>
          <a:solidFill>
            <a:srgbClr val="00cc00"/>
          </a:solidFill>
          <a:ln w="101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89600" y="4538520"/>
            <a:ext cx="6192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7440" y="4329000"/>
            <a:ext cx="63720" cy="684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1160" y="4329000"/>
            <a:ext cx="61920" cy="684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73840" y="4245120"/>
            <a:ext cx="237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23080" y="4468680"/>
            <a:ext cx="6192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8360" y="4259160"/>
            <a:ext cx="6192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07080" y="5167440"/>
            <a:ext cx="61920" cy="7128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19880" y="4748040"/>
            <a:ext cx="63360" cy="716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356520" y="4608360"/>
            <a:ext cx="6336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45160" y="3978360"/>
            <a:ext cx="6192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07080" y="3559320"/>
            <a:ext cx="61920" cy="680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30920" y="3978360"/>
            <a:ext cx="6192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35520" y="4048200"/>
            <a:ext cx="6192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97440" y="3838680"/>
            <a:ext cx="6372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11680" y="3559320"/>
            <a:ext cx="61920" cy="680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00640" y="3699000"/>
            <a:ext cx="6336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00640" y="3559320"/>
            <a:ext cx="63360" cy="680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79960" y="5537160"/>
            <a:ext cx="93420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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10-20%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&lt;10%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33520" y="5645160"/>
            <a:ext cx="23760" cy="2556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93920" y="5810400"/>
            <a:ext cx="104760" cy="117360"/>
          </a:xfrm>
          <a:prstGeom prst="ellipse">
            <a:avLst/>
          </a:prstGeom>
          <a:solidFill>
            <a:srgbClr val="f6bf69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33520" y="6066000"/>
            <a:ext cx="237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68280" y="5459400"/>
            <a:ext cx="1100160" cy="817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440" y="4329000"/>
            <a:ext cx="61920" cy="684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30760" y="2144880"/>
            <a:ext cx="23760" cy="236520"/>
          </a:xfrm>
          <a:prstGeom prst="rect">
            <a:avLst/>
          </a:prstGeom>
          <a:solidFill>
            <a:srgbClr val="ffffff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41920" y="2368440"/>
            <a:ext cx="6192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91240" y="2214720"/>
            <a:ext cx="23760" cy="2700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27400" y="3219480"/>
            <a:ext cx="1047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75080" y="4408560"/>
            <a:ext cx="104760" cy="1191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24200" y="5178600"/>
            <a:ext cx="103320" cy="11880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93960" y="5040360"/>
            <a:ext cx="104760" cy="1159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49480" y="5880240"/>
            <a:ext cx="10332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57640" y="5950080"/>
            <a:ext cx="106200" cy="1159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46640" y="5529240"/>
            <a:ext cx="1029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21000" y="5668920"/>
            <a:ext cx="103320" cy="1191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21000" y="5810400"/>
            <a:ext cx="10332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70120" y="3570120"/>
            <a:ext cx="105120" cy="1177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93960" y="3360600"/>
            <a:ext cx="104760" cy="1177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1520" y="3219480"/>
            <a:ext cx="1029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93960" y="3849840"/>
            <a:ext cx="1047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1520" y="4059360"/>
            <a:ext cx="1029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17800" y="3780000"/>
            <a:ext cx="1047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1520" y="3639960"/>
            <a:ext cx="102960" cy="1177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17800" y="3500280"/>
            <a:ext cx="104760" cy="1159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43440" y="3500280"/>
            <a:ext cx="102960" cy="1159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30640" y="3429000"/>
            <a:ext cx="104760" cy="1191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91120" y="3009960"/>
            <a:ext cx="1047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17800" y="3079800"/>
            <a:ext cx="1047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76880" y="3009960"/>
            <a:ext cx="10620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02160" y="2940120"/>
            <a:ext cx="1047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40240" y="2381400"/>
            <a:ext cx="103320" cy="1155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02160" y="2309760"/>
            <a:ext cx="1047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65520" y="2168640"/>
            <a:ext cx="103320" cy="11880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4480" y="3219480"/>
            <a:ext cx="10332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54480" y="3360600"/>
            <a:ext cx="103320" cy="1177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49600" y="3475080"/>
            <a:ext cx="2232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86240" y="3614760"/>
            <a:ext cx="237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86240" y="3755880"/>
            <a:ext cx="23760" cy="2556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56000" y="3335400"/>
            <a:ext cx="237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03680" y="2844720"/>
            <a:ext cx="255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30760" y="2565360"/>
            <a:ext cx="237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54600" y="2565360"/>
            <a:ext cx="2232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91240" y="2354400"/>
            <a:ext cx="237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40360" y="2495520"/>
            <a:ext cx="2232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02280" y="3265560"/>
            <a:ext cx="237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41760" y="3546360"/>
            <a:ext cx="23760" cy="2556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54600" y="3684600"/>
            <a:ext cx="2232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78440" y="3825720"/>
            <a:ext cx="237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51400" y="3546360"/>
            <a:ext cx="23760" cy="2556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51400" y="3755880"/>
            <a:ext cx="23760" cy="2556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61000" y="3546360"/>
            <a:ext cx="23760" cy="2556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78440" y="4594320"/>
            <a:ext cx="237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97280" y="4384800"/>
            <a:ext cx="237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28920" y="4245120"/>
            <a:ext cx="237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00440" y="4664160"/>
            <a:ext cx="2520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89440" y="6134040"/>
            <a:ext cx="219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51000" y="6485040"/>
            <a:ext cx="2412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86280" y="3825720"/>
            <a:ext cx="2412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86280" y="4103640"/>
            <a:ext cx="2412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94480" y="3614760"/>
            <a:ext cx="237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534000" y="3965400"/>
            <a:ext cx="24120" cy="2556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19760" y="3965400"/>
            <a:ext cx="24120" cy="2556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86280" y="4384800"/>
            <a:ext cx="2412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7680" y="4316400"/>
            <a:ext cx="23760" cy="2556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973840" y="4454640"/>
            <a:ext cx="237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11920" y="4316400"/>
            <a:ext cx="22320" cy="2556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45360" y="4594320"/>
            <a:ext cx="237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0640" y="4805280"/>
            <a:ext cx="237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57840" y="5224320"/>
            <a:ext cx="2232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29360" y="5996160"/>
            <a:ext cx="23760" cy="2520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48200" y="4525920"/>
            <a:ext cx="25560" cy="2556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57840" y="4245120"/>
            <a:ext cx="22320" cy="2700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44960" y="3405240"/>
            <a:ext cx="25560" cy="2700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49600" y="3894120"/>
            <a:ext cx="22320" cy="2700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27520" y="3546360"/>
            <a:ext cx="23760" cy="2556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78040" y="3546360"/>
            <a:ext cx="22320" cy="2556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41760" y="4735440"/>
            <a:ext cx="23760" cy="2700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11520" y="5295960"/>
            <a:ext cx="23760" cy="2700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74840" y="5575320"/>
            <a:ext cx="24120" cy="2700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36760" y="5924520"/>
            <a:ext cx="24120" cy="2700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12920" y="5996160"/>
            <a:ext cx="24120" cy="2520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10360" y="4059360"/>
            <a:ext cx="1047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60880" y="4549680"/>
            <a:ext cx="106560" cy="1177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37040" y="4759200"/>
            <a:ext cx="104760" cy="1177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60880" y="4898880"/>
            <a:ext cx="106560" cy="1191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89360" y="5880240"/>
            <a:ext cx="1047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934240" y="3639960"/>
            <a:ext cx="104760" cy="1177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21400" y="4059360"/>
            <a:ext cx="1047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08600" y="3919680"/>
            <a:ext cx="10332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243480" y="4340160"/>
            <a:ext cx="103320" cy="1177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5400" y="4689360"/>
            <a:ext cx="104760" cy="1177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369120" y="4898880"/>
            <a:ext cx="102960" cy="1191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04000" y="3780000"/>
            <a:ext cx="10332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64480" y="3849840"/>
            <a:ext cx="1047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53120" y="3849840"/>
            <a:ext cx="10332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04000" y="4199040"/>
            <a:ext cx="10332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04000" y="4479840"/>
            <a:ext cx="103320" cy="1159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53120" y="6019920"/>
            <a:ext cx="10332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99360" y="5950080"/>
            <a:ext cx="106200" cy="1159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746680" y="4199040"/>
            <a:ext cx="10332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36040" y="6019920"/>
            <a:ext cx="1047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74120" y="6159600"/>
            <a:ext cx="1047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376880" y="3500280"/>
            <a:ext cx="106200" cy="1159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02160" y="3639960"/>
            <a:ext cx="104760" cy="1177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65520" y="3710160"/>
            <a:ext cx="103320" cy="1155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81520" y="2870280"/>
            <a:ext cx="1029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17800" y="2728800"/>
            <a:ext cx="104760" cy="1177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43440" y="2728800"/>
            <a:ext cx="102960" cy="1177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1520" y="2590920"/>
            <a:ext cx="102960" cy="1159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43440" y="2590920"/>
            <a:ext cx="102960" cy="1159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16400" y="3429000"/>
            <a:ext cx="104760" cy="1191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12200" y="6229440"/>
            <a:ext cx="1029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574200" y="1336680"/>
            <a:ext cx="8078760" cy="502776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27000" bIns="27000" anchor="t">
            <a:norm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r>
              <a:rPr b="1" lang="fr-FR" sz="3300" spc="-1" strike="noStrike">
                <a:solidFill>
                  <a:srgbClr val="fafd00"/>
                </a:solidFill>
                <a:latin typeface="Times New Roman"/>
              </a:rPr>
              <a:t>Rapporti tra rinite ed asma: 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88"/>
              </a:spcBef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r>
              <a:rPr b="1" lang="fr-FR" sz="3100" spc="-1" strike="noStrike">
                <a:solidFill>
                  <a:srgbClr val="fafd00"/>
                </a:solidFill>
                <a:latin typeface="Times New Roman"/>
              </a:rPr>
              <a:t>Evidenze epidemiologiche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88"/>
              </a:spcBef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62"/>
              </a:spcBef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1- La prevalenza dell ’asma è aumentata nella rinite          allergica e non allergic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62"/>
              </a:spcBef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2- La rinite è quasi sempre presente nel bambino con asma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62"/>
              </a:spcBef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3- La rinite può essere fattore di rischio di asma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62"/>
              </a:spcBef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Times New Roman"/>
              </a:rPr>
              <a:t>4- L ’iperreattività bronchiale aspecifica è aumentata nella rinite perenne 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Unictgif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1371600" cy="13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llergia come Malattia Siste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56080" y="4857840"/>
            <a:ext cx="2017800" cy="1836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86360" y="4097160"/>
            <a:ext cx="2017800" cy="1835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70360" y="2604960"/>
            <a:ext cx="2017800" cy="1835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46640" y="1811160"/>
            <a:ext cx="2017440" cy="1835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21492600">
            <a:off x="2077920" y="4237200"/>
            <a:ext cx="2017800" cy="183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rot="21492600">
            <a:off x="2124000" y="2709720"/>
            <a:ext cx="2017800" cy="1835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589c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657600" y="5675400"/>
            <a:ext cx="1812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Dermatite Atop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3429000"/>
            <a:ext cx="158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r">
              <a:spcBef>
                <a:spcPts val="1562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Orticari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28800" y="5105520"/>
            <a:ext cx="2514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Congiuntivi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730680" y="2360520"/>
            <a:ext cx="1603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Asm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05520" y="2971800"/>
            <a:ext cx="161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inite Aller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14960" y="4861080"/>
            <a:ext cx="1725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imes New Roman"/>
              </a:rPr>
              <a:t>Allergia Alimenta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68720" y="2743200"/>
            <a:ext cx="2725560" cy="3065400"/>
          </a:xfrm>
          <a:prstGeom prst="irregularSeal1">
            <a:avLst/>
          </a:prstGeom>
          <a:gradFill rotWithShape="0">
            <a:gsLst>
              <a:gs pos="0">
                <a:srgbClr val="2e7417"/>
              </a:gs>
              <a:gs pos="100000">
                <a:srgbClr val="66ff3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51320" y="3413160"/>
            <a:ext cx="2278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Times New Roman"/>
              </a:rPr>
              <a:t>ALLERGIA - </a:t>
            </a:r>
            <a:br>
              <a:rPr sz="2500"/>
            </a:br>
            <a:r>
              <a:rPr b="1" lang="en-US" sz="2500" spc="-1" strike="noStrike">
                <a:solidFill>
                  <a:srgbClr val="ffff00"/>
                </a:solidFill>
                <a:latin typeface="Times New Roman"/>
              </a:rPr>
              <a:t>UNA MALATTIA SISTEM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vert"/>
      </p:transition>
    </mc:Choice>
    <mc:Fallback>
      <p:transition spd="slow">
        <p:randomBar dir="vert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Tahoma"/>
              </a:rPr>
              <a:t>Quale è il miglior trattamento nelle malattie allergich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3580920"/>
            <a:ext cx="7772400" cy="2667240"/>
          </a:xfrm>
          <a:prstGeom prst="rect">
            <a:avLst/>
          </a:prstGeom>
          <a:solidFill>
            <a:srgbClr val="efeff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Riduzione dei sintomi IMMEDIATI attraverso i farmaci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Riduzione   della     immunoflogosi attraverso     antiinfiammatori   ed  immunoterapia specific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Unictgif2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176480" cy="9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Indicazioni alla ITS sublingu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1776240" cy="31705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286000" y="1611360"/>
            <a:ext cx="6324480" cy="79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oco aderenza  alla terapia e /o  rifiuto delle  iniez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regresse reazioni generali all’ ITS tradizion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azienti non ben controllati dalla terapia farmacologica tradizion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Alcuni pazienti con rinite, congiuntivite e/ o asma da polline ed aca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6248520"/>
            <a:ext cx="67057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RIA :J Allergy Clin Immuno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752480" y="30492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Times New Roman"/>
              </a:rPr>
              <a:t>IMMUNOTERAPIA SPECIFICA IN PAZIENTI CON ASMA / RIN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4920" y="2286000"/>
            <a:ext cx="251460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2057400"/>
            <a:ext cx="297180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RINITE MODER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PIU’ CONGIUNTIVIT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715000" y="1676520"/>
            <a:ext cx="312408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RINITE SEV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PIU’ CONGIUNTIV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2971800"/>
            <a:ext cx="8534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191120" y="3505320"/>
            <a:ext cx="4647960" cy="3808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CONSIDERARE IMMUNOTERA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04920" y="4952880"/>
            <a:ext cx="220968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AS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INTERMIRTT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514600" y="4724280"/>
            <a:ext cx="213372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ASMA LIE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PERSIST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48320" y="4495680"/>
            <a:ext cx="2133360" cy="1219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AS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PERSIST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MODER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1680" y="4191120"/>
            <a:ext cx="2057400" cy="1523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5867280"/>
            <a:ext cx="853416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FARMACOTERAP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8040" y="6477120"/>
            <a:ext cx="4496040" cy="3808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CONSIDERARE IMUNOTERA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23623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RINITE LIE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296856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PROFILASSI ALLERGICA (QUANDO POSSIB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010280" y="449568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AS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PERSISTE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GR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Unictgif2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371600" cy="1360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371600" y="2209680"/>
            <a:ext cx="6858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..…. l’ITS costituisce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Times New Roman"/>
              </a:rPr>
              <a:t>l’unica opzion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in grado di modificare la “Storia naturale” delle malattie allergiche e di prevenire lo sviluppo di nuove sensibilizzazion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937840" y="5896080"/>
            <a:ext cx="29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WHO Position Paper 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Unictgif2" descr=""/>
          <p:cNvPicPr/>
          <p:nvPr/>
        </p:nvPicPr>
        <p:blipFill>
          <a:blip r:embed="rId1"/>
          <a:stretch/>
        </p:blipFill>
        <p:spPr>
          <a:xfrm>
            <a:off x="271440" y="762120"/>
            <a:ext cx="1176480" cy="98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l’ITS puo’ ridurre i sintomi dell’asma e l’uso dei farmaci; pertanto 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mbra essere un’utile aggiunta alla terapia dell’asma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er allergeni a)correttamente   individua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b) con rilevanza clin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)ineliminab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09880" y="5715000"/>
            <a:ext cx="533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bramson MJ, Am.J.Resp.Crit.Care Med 199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oss RN, Clin Ther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bramson MJ Cochrane Database Syst Rev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freccia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4038480" cy="24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571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ffetti a lungo termine della ITS sublingu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0" y="5943600"/>
            <a:ext cx="62485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Madonini e coll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66680" y="2666880"/>
            <a:ext cx="75438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80 % di una coorte di 302 avevano benefici dopo 11,6 mes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Il beneficio clinico era strettamente legato alla lunghezza del trattam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30T18:37:55Z</dcterms:created>
  <dc:creator>Suzanne S. Hurd</dc:creator>
  <dc:description/>
  <dc:language>en-US</dc:language>
  <cp:lastModifiedBy>luca</cp:lastModifiedBy>
  <dcterms:modified xsi:type="dcterms:W3CDTF">2004-03-08T23:07:53Z</dcterms:modified>
  <cp:revision>73</cp:revision>
  <dc:subject/>
  <dc:title>PowerPoint Presentation</dc:title>
</cp:coreProperties>
</file>